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7C4F-5772-4EE8-8C42-2655023B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7D41-0DCD-4CD9-B144-D0825F8A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A063-07CC-4E8D-9B57-7B1DCD547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0132-A78D-46F7-8A53-22467F24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CB88-72BC-4177-B649-7001CD6D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C6EB-A448-45CC-A7F2-AA5241D3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EE8E-61B0-4405-B7F4-31DC178C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7BEF-71FF-485C-921D-F96BA623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E1CF-AC59-4F93-BE32-F46371B9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DE95-D473-4275-9331-B9BA4F94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B3FF-4D4B-461E-8C0F-5C45D770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E4A0-10DC-47C9-AEA4-0C469744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9272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759DDC5-C3DD-45C2-9651-7812789DEEC2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4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odel sele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79280" y="2852640"/>
          <a:ext cx="8748720" cy="310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852640"/>
                    <a:ext cx="8748720" cy="31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684360" y="836640"/>
            <a:ext cx="77724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r(mfrow=c(2,2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lot(fitted(Cars93.step), resid(Cars93.step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bline(h = 0, lty = 4, col =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qnorm(resid(Cars93.step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qline(resid(Cars93.step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0E23-8879-4463-96D2-DB05DEA0A727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What happens if we use AIC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ars93.AIC &lt;- stepAIC(Cars93.lm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cope = list(lower = ~ Weight, upper = ~ Type + Min.Price +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rice + Max.Price + AirBags + DriveTrain + Cylinders + EngineSize + Horsepower + RPM + Rev.per.mile +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Fuel.tank.capacity + Passengers + Length + Wheelbase + Width + Turn.circle + Weight + Origin), k = 2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dropterm(Cars93.AIC, test = "F", sorted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6C25-DE09-48C6-9CA8-0ADEFD2E821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772400" cy="53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ingle term deletion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odel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000./MPG.city ~ Weight + Cylinders + Fuel.tank.capacity + Length +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rigin + Min.Price + Horsepower + Wheelbas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f Sum of Sq      RSS      AIC  F Value     Pr(F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none&gt;               938.132 240.9501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Wheelbase  1   24.2090  962.341 241.3195  2.06444 0.154669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Horsepower  1   45.2546  983.387 243.3315  3.85913 0.0529484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Length  1   64.4150 1002.547 245.1260  5.49305 0.0215748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ylinders  5  157.5719 1095.704 245.3894  2.68742 0.0268981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in.Price  1   82.2667 1020.399 246.7675  7.01536 0.0097334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rigin  1  105.3495 1043.481 248.8478  8.98377 0.0036272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uel.tank.capacity  1  156.0240 1094.156 253.2579 13.30508 0.0004697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Weight  1  239.4604 1177.592 260.0924 20.42019 0.0000212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Much less stringent choice of variables.  Perhaps we should remove some starting with the least significant.  The ‘backwards elimination’ sequence is as follows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95EE-AB78-443E-9333-9F23A41BAB20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772400" cy="555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Cars93.AIC &lt;- update(Cars93.AIC, .~.-Wheelbas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Cars93.AIC, test = "F", sorted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Cars93.AIC &lt;- update(Cars93.AIC, .~.-Horsepower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Cars93.AIC, test = "F", sorted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Cars93.AIC &lt;- update(Cars93.AIC, .~.-Cylinders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Cars93.AIC, test = "F", sorted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1000./MPG.city ~ Weight + Fuel.tank.capacity + Length + Origin +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Min.Pric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Df Sum of Sq      RSS      AIC F Value  Pr(F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&lt;none&gt;              1126.909 244.0010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Length  1  122.4164 1249.326 251.5917  9.4508 0.0028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Min.Price  1  153.1380 1280.047 253.8509 11.8226 0.000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Origin  1  188.6606 1315.570 256.3966 14.5650 0.0003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Fuel.tank.capacity  1  223.0965 1350.006 258.7996 17.2236 0.0001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Weight  1  362.0418 1488.951 267.9102 27.9505 0.000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B0BA-A2B5-4E94-9DE4-9BD060A034E4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Not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ll interaction terms have been remove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ith the BIC model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” is not present, but “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Origin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” i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Min.pric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” is presumably a surrogate variable for engineering refinemen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IC model is very different, but has a slightly lower multiple R</a:t>
            </a:r>
            <a:r>
              <a:rPr b="0" lang="en-GB" sz="2400" spc="-1" strike="noStrike" baseline="30000">
                <a:solidFill>
                  <a:srgbClr val="000099"/>
                </a:solidFill>
                <a:latin typeface="Arial Unicode MS"/>
              </a:rPr>
              <a:t>2.  (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obably a very biased equation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onsider the standard diagnostic plots for the BIC model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esiduals vs fitted values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rmal scores plot of the residua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766D-3EC9-4C13-9396-0D1607CC694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Tree modelling strateg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c3300"/>
                </a:solidFill>
                <a:latin typeface="Courier New"/>
              </a:rPr>
              <a:t>#### now for something completely different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require(rpar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ars93.tm &lt;- rpart(I(1000/MPG.city) ~ Type + Min.Price + Price + Max.Price + AirBags + DriveTrain + Cylinders + EngineSize + Horsepower + RPM + Rev.per.mile + Fuel.tank.capacity + Passengers + Length + Wheelbase + Width + Turn.circle + Weight + Origin, Cars93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cp(Cars93.t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(Cars93.tm); text(Cars93.tm, col = "green4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(predict(Cars93.tm), predict(Cars93.AIC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abline(0, 1, lty = "solid", col = "red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5EDC-EEA9-4C84-ACAA-A025C6F1F7C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B0C9-5B6C-40E0-B638-B06A19146975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8299" r="0" b="10498"/>
          <a:stretch/>
        </p:blipFill>
        <p:spPr>
          <a:xfrm>
            <a:off x="826920" y="0"/>
            <a:ext cx="7417080" cy="602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6B7B-049E-4AD4-9C5B-7C50EC095CA4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7207" r="0" b="0"/>
          <a:stretch/>
        </p:blipFill>
        <p:spPr>
          <a:xfrm>
            <a:off x="900000" y="0"/>
            <a:ext cx="7272360" cy="674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49FF-C4CB-49C5-ADDC-953FE0363E60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Random forests of tre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require(randomFore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Cars93.rf &lt;- randomForest(1000/MPG.city ~ Type + Min.Price + Price + Max.Price + AirBags + DriveTrain + Cylinders + EngineSize + Horsepower + RPM + Rev.per.mile + Fuel.tank.capacity + Passengers + Length + Wheelbase + Width + Turn.circle + Weight + Origin, Cars9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plot(predict(Cars93.rf), predict(Cars93.AIC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abline(0, 1, lty = "solid", col = "red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0044-AA98-4886-9448-E07761DAD2F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example: Cars 93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Details (~data) from 93 makes of car released in the USA in 1993.  Variable names largely self-explanatory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Problem: build a prediction equation for the fuel economy from the other variables available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rint(names(Cars93), quote = F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1] Manufacturer       Type               Min.Price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4] Price              Max.Price          MPG.city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7] MPG.highway        AirBags            DriveTrain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10] Cylinders          EngineSize         Horsepower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13] RPM                Rev.per.mile       Man.trans.avail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16] Fuel.tank.capacity Passengers         Length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19] Wheelbase          Width              Turn.circle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22] Rear.seat.room     Luggage.room       Weight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25] Origin             Mak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E450-42F3-47DF-83D8-0C67F64114A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1027-03AD-44A3-85FC-3A2AF383EBBF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Not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Tree models can be unstable, but the tree structure is often enlightening and predictions from them can be fairly stab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Random forests can substantially improve the predictive capacity of tree models, but at the expense of interpretability: a 'black box' predict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Really tools from machine learning and data mining, but useful in conjunction with classical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More later in the course…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AAA0-7489-4274-9E5F-B8EDFBEBDAD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cale of the respons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As the response we choos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PG.city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e dominant predictor will (presumably) be the weight of the vehicle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Consider some exploratory plots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PG.city</a:t>
            </a: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 vs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eight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1000/MPG.city</a:t>
            </a: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 vs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eight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quire(lattice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1 &lt;- xyplot(MPG.city ~ Weight, Cars9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2 &lt;- xyplot(1000/MPG.city ~ Weight, Cars9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int(p1, c(0, 0.5, 0.5, 1), mor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int(p2, c(0.5, 0.5, 1, 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3BAC-EFC4-47BE-BE66-FA145E815A4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3860640"/>
            <a:ext cx="7772400" cy="21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first scale asymptotes to zero and the variance contracts for large we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second scale is open-ended for large vehicles and shows much more variance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ither scale is a convenient one for fuel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0" r="0" b="50005"/>
          <a:stretch/>
        </p:blipFill>
        <p:spPr>
          <a:xfrm>
            <a:off x="790560" y="0"/>
            <a:ext cx="7561440" cy="37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BC66-C99E-44EE-9B9F-042751B09E6F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Box-cox transforma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Device for choosing a scale which is a power transform of the original.  (See introductory session.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rs93.lm &lt;- lm(MPG.city ~ Weight, Cars9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oxcox(Cars93.lm, lambda = seq(-2, -0.5, len=15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ince </a:t>
            </a:r>
            <a:r>
              <a:rPr b="0" lang="el-GR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λ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= -1 is well within the acceptable range (next slide), this is the scale we confirm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Now look for other variables that might improve the prediction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Cars93.lm &lt;- update(Cars93.lm, 1000/MPG.city ~ .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203B-2A0D-422C-9731-9B81DA4B31D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8299" r="0" b="0"/>
          <a:stretch/>
        </p:blipFill>
        <p:spPr>
          <a:xfrm>
            <a:off x="934920" y="0"/>
            <a:ext cx="7272360" cy="666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4495-B260-44A4-802C-D087628C2C7E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utomated selection of variabl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t is never a good idea to entrust the selection of variables in a regression entirely to some automated procedur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t is, nevertheless, often quite a good idea to take into account which variables such procedures suggest as important, along with other thing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fit an intermediate regression and consider an automated procedure that steps “up and down”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ather than minimize AIC, we choose BIC, which penalizes redundant variables much harder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02BD-FFC6-4398-9FD6-80E48C39BDC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33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rs93.lm1 &lt;- lm(1000/MPG.city ~ Type * (Weight + Horsepower + Length), Cars9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ropterm(Cars93.lm1, test = "F", k = log(93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1000/MPG.city ~ Type * (Weight + Horsepower + Length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f Sum of Sq      RSS      AIC  F Value     Pr(F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&lt;none&gt;              1059.993 335.0903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Type:Weight  5  163.6090 1223.602 325.7762 2.130018 0.0720422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Type:Horsepower  5   92.1563 1152.150 320.1804 1.199779 0.3185266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Type:Length  5  149.1609 1209.154 324.6715 1.941918 0.0984718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Notice that only the marginal terms are dropped and none are significant.</a:t>
            </a:r>
            <a:r>
              <a:rPr b="1" lang="en-GB" sz="18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F653-8963-41FA-90BF-5EBC21BE80A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tepwise refinemen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ars93.step &lt;- stepAIC(Cars93.lm1, scope = list(lower = ~ Weight, upper = ~ Type*(Min.Price + Price + Max.Price + AirBags + DriveTrain + Cylinders + EngineSize + Horsepower + RPM + Rev.per.mile + Fuel.tank.capacity + Passengers + Length + Wheelbase + Width + Turn.circle + Weight + Origin)), k = log(93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term(Cars93.step, test = "F", k = log(93), sorted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1000/MPG.city ~ Weight + Length + Fuel.tank.capacity + Origin +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Min.Pric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f Sum of Sq     RSS     AIC F Value     Pr(F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&lt;none&gt;                          1126.91  259.20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Weight              1    362.04 1488.95  280.57   27.95 9.137e-07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Length              1    122.42 1249.33  264.25    9.45 0.0028192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Fuel.tank.capacity  1    223.10 1350.01  271.46   17.22 7.718e-05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Origin              1    188.66 1315.57  269.06   14.57 0.000252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Min.Price           1    153.14 1280.05  266.51   11.82 0.0009001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26F8-4306-4ED2-B719-13C58356C5E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07T02:58:25Z</dcterms:modified>
  <cp:revision>12</cp:revision>
  <dc:subject/>
  <dc:title>S-PLUS, An Introduction to the System</dc:title>
</cp:coreProperties>
</file>